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4D39-3394-437B-B37C-2B62DF96D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86CA-9BEA-4AB5-A2AC-B28E46953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2220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151920"/>
            <a:ext cx="8381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6416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3-</a:t>
            </a:r>
            <a:fld id="{FA2B6769-1624-45D3-B4CB-943D41F431D8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3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-Volume-Profit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M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mix (or sales mix) is the relative combination of quantities of products or services that make up total reven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les mix of  Do-All : Superword  =  2 : 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30 unit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 units of Do-Al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0 units of Superwo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2971800"/>
            <a:ext cx="1600200" cy="825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-Al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2971800"/>
            <a:ext cx="1600200" cy="825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-Al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2971800"/>
            <a:ext cx="160020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uperwor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525780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5257800"/>
            <a:ext cx="1676160" cy="3808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 - 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ple Cost Driv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many cases there may be multiple cost driv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-All Software Examp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s: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 per software package sol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5 per invoice issu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– ($40 x packages sold) – ($15 x invoices issued) – Fix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cases where there are multiple cost drivers there are multiple breakeven po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1 - 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&amp; Gross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rchandising Sect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 82 - 8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981080"/>
            <a:ext cx="4114800" cy="419112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Variable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vari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3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6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xed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fix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9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4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1981080"/>
            <a:ext cx="4343400" cy="33530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  (120+5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2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costs (43+19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6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&amp; Gross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Sect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1 - 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981080"/>
            <a:ext cx="4038480" cy="419112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Variable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70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xed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6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38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9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1981080"/>
            <a:ext cx="4419720" cy="33530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 (250+160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1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 (270+138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0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ision Models and Uncertain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make predictions and decisions in a world of uncertain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stimate events that are likely to occur and assign probabilities to each out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bability distribution describes the likelihood of each mutually exclusive and collectively exhaustive set of events  (must add to 1.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value is a weighted average of the outcomes with the probability of each outcome serving as the weigh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 86 - 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190512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266688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97180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certainty 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1905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posal A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y No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1295280"/>
            <a:ext cx="213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babili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4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1295280"/>
            <a:ext cx="0" cy="198144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3352680"/>
            <a:ext cx="3048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 3  4  5  6  7  8  9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Inflow ($000,000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2971800"/>
            <a:ext cx="152280" cy="304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2666880"/>
            <a:ext cx="152280" cy="60984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1905120"/>
            <a:ext cx="152640" cy="137160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666880"/>
            <a:ext cx="152280" cy="60984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2971800"/>
            <a:ext cx="152280" cy="304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32767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4495680"/>
            <a:ext cx="8305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val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0.1*$300,000) + (.02*$350,000) + (.04*$400,000) + (0.2*$450,000) + (0.1*$500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4272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-Volume-Profit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ines the behaviour of total revenues, total costs, and operating income as changes occur in the output level, selling price, variable costs or fix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ptions of CVP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change in relation to production and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n be divided in variable and fixed categor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and costs behave in a linear fash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nd prices are know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more than one product exists, the sales mix is const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 can ignore the time value of mone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6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936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127160"/>
            <a:ext cx="8305920" cy="275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is equal to the difference between total revenue and total variabl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 - Variable cost per uni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cent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 / selling price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8 - 6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3520" y="3886200"/>
            <a:ext cx="8229600" cy="2362320"/>
            <a:chOff x="533520" y="3886200"/>
            <a:chExt cx="8229600" cy="2362320"/>
          </a:xfrm>
        </p:grpSpPr>
        <p:sp>
          <p:nvSpPr>
            <p:cNvPr id="56" name=""/>
            <p:cNvSpPr/>
            <p:nvPr/>
          </p:nvSpPr>
          <p:spPr>
            <a:xfrm>
              <a:off x="533520" y="4876920"/>
              <a:ext cx="80769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Variable costs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12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24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6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tribution margin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8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16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" y="3886200"/>
              <a:ext cx="8077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ctr" pos="3828960"/>
                  <a:tab algn="ctr" pos="5600880"/>
                  <a:tab algn="ctr" pos="69724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otal f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3828960"/>
                  <a:tab algn="ctr" pos="5600880"/>
                  <a:tab algn="ctr" pos="69724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er Unit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 units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4724280"/>
              <a:ext cx="41148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42720"/>
            <a:ext cx="798984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Income Stat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550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ackages Sold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5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4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064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Revenu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2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4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5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8,0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Variable costs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       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12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4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3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4,8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8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16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3,2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Fixed costs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2,00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1,92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1,84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1,2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2193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ome statement that groups line items by cost  behaviour to highlight the 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3276720"/>
            <a:ext cx="5562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6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79360"/>
            <a:ext cx="798984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eakeven Po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62920" cy="123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ntity of output where total revenues equal tota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int where operating income equals zer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5909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 / Contribution margin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,000 / $80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25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dolla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 / contribution margin %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,000 / 40%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-Volume-Profit Grap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660320"/>
            <a:ext cx="1067040" cy="382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0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8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1523880"/>
            <a:ext cx="0" cy="3733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5257800"/>
            <a:ext cx="56390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5468760"/>
            <a:ext cx="6705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154160"/>
                <a:tab algn="ctr" pos="2193840"/>
                <a:tab algn="ctr" pos="3348000"/>
                <a:tab algn="ctr" pos="4473720"/>
                <a:tab algn="ctr" pos="5627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5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154160"/>
                <a:tab algn="ctr" pos="2193840"/>
                <a:tab algn="ctr" pos="3348000"/>
                <a:tab algn="ctr" pos="4473720"/>
                <a:tab algn="ctr" pos="5627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3581280"/>
            <a:ext cx="0" cy="167652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581280"/>
            <a:ext cx="2819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38880" y="1492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revenu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1600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reakeve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 uni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2590920"/>
            <a:ext cx="152280" cy="7617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200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pera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572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pera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523880" y="2590560"/>
            <a:ext cx="5486400" cy="19810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523880" y="1904760"/>
            <a:ext cx="5562720" cy="33526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1905120"/>
            <a:ext cx="2743200" cy="1676160"/>
          </a:xfrm>
          <a:custGeom>
            <a:avLst/>
            <a:gdLst/>
            <a:ahLst/>
            <a:rect l="l" t="t" r="r" b="b"/>
            <a:pathLst>
              <a:path w="1728" h="1104">
                <a:moveTo>
                  <a:pt x="1728" y="0"/>
                </a:moveTo>
                <a:lnTo>
                  <a:pt x="1728" y="480"/>
                </a:lnTo>
                <a:lnTo>
                  <a:pt x="0" y="1104"/>
                </a:lnTo>
                <a:lnTo>
                  <a:pt x="1728" y="0"/>
                </a:lnTo>
                <a:close/>
              </a:path>
            </a:pathLst>
          </a:custGeom>
          <a:solidFill>
            <a:srgbClr val="0099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324480" y="2666880"/>
            <a:ext cx="0" cy="457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3581280"/>
            <a:ext cx="2819520" cy="1676520"/>
          </a:xfrm>
          <a:custGeom>
            <a:avLst/>
            <a:gdLst/>
            <a:ahLst/>
            <a:rect l="l" t="t" r="r" b="b"/>
            <a:pathLst>
              <a:path w="1776" h="1056">
                <a:moveTo>
                  <a:pt x="0" y="1056"/>
                </a:moveTo>
                <a:lnTo>
                  <a:pt x="0" y="624"/>
                </a:lnTo>
                <a:lnTo>
                  <a:pt x="1776" y="0"/>
                </a:lnTo>
                <a:lnTo>
                  <a:pt x="0" y="1056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590560" y="4343040"/>
            <a:ext cx="60948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22860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get Operating Inco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 most firms in the private sector, the main objective is not to breakeve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t after-tax desired net income to its before-tax equivalent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net income / (1 - tax rat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Unit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Fixed costs + Target operating incom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/ Contribution margin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Dollar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Fixed costs + Target operating incom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/ Contribution margin %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6461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 - 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nsitiv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analysis is a “what-if” technique that examines how a result will change if the original predicted data are not achieved or if an underlying assumption chang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will happen to operating income if volume declines by 5%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will happen to operating income if variable costs increase by 10% per unit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analysis broadens management’s perspectives about possible outcom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6 - 7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ernative Cost Struc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VP helps managers assess the risks and potential benefits of adopting alternative cost struct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7 - 7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0574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 Alternative rental arrangem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95880" y="2971800"/>
            <a:ext cx="2971800" cy="3309120"/>
            <a:chOff x="6095880" y="2971800"/>
            <a:chExt cx="2971800" cy="3309120"/>
          </a:xfrm>
        </p:grpSpPr>
        <p:sp>
          <p:nvSpPr>
            <p:cNvPr id="99" name=""/>
            <p:cNvSpPr/>
            <p:nvPr/>
          </p:nvSpPr>
          <p:spPr>
            <a:xfrm>
              <a:off x="6519960" y="4114800"/>
              <a:ext cx="1785960" cy="1343160"/>
            </a:xfrm>
            <a:custGeom>
              <a:avLst/>
              <a:gdLst/>
              <a:ahLst/>
              <a:rect l="l" t="t" r="r" b="b"/>
              <a:pathLst>
                <a:path w="1125" h="846">
                  <a:moveTo>
                    <a:pt x="1125" y="0"/>
                  </a:moveTo>
                  <a:lnTo>
                    <a:pt x="1125" y="192"/>
                  </a:lnTo>
                  <a:lnTo>
                    <a:pt x="0" y="846"/>
                  </a:lnTo>
                  <a:lnTo>
                    <a:pt x="855" y="210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72200" y="297180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3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0% Commission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7120" y="4114800"/>
              <a:ext cx="0" cy="1371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77120" y="5486400"/>
              <a:ext cx="1828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477120" y="4114800"/>
              <a:ext cx="1828800" cy="1371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477120" y="4419360"/>
              <a:ext cx="1828800" cy="10666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05920" y="38098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05920" y="419112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95880" y="3962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01000" y="5562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943600"/>
              <a:ext cx="23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0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971800" y="2666880"/>
            <a:ext cx="3428640" cy="3620880"/>
            <a:chOff x="2971800" y="2666880"/>
            <a:chExt cx="3428640" cy="3620880"/>
          </a:xfrm>
        </p:grpSpPr>
        <p:sp>
          <p:nvSpPr>
            <p:cNvPr id="111" name=""/>
            <p:cNvSpPr/>
            <p:nvPr/>
          </p:nvSpPr>
          <p:spPr>
            <a:xfrm>
              <a:off x="4350960" y="4159440"/>
              <a:ext cx="1170360" cy="750960"/>
            </a:xfrm>
            <a:custGeom>
              <a:avLst/>
              <a:gdLst/>
              <a:ahLst/>
              <a:rect l="l" t="t" r="r" b="b"/>
              <a:pathLst>
                <a:path w="639" h="483">
                  <a:moveTo>
                    <a:pt x="639" y="0"/>
                  </a:moveTo>
                  <a:lnTo>
                    <a:pt x="639" y="192"/>
                  </a:lnTo>
                  <a:lnTo>
                    <a:pt x="0" y="483"/>
                  </a:lnTo>
                  <a:lnTo>
                    <a:pt x="369" y="210"/>
                  </a:lnTo>
                  <a:lnTo>
                    <a:pt x="639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47840" y="2666880"/>
              <a:ext cx="29887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400 Fixed Fe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+ 5% Commission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11360" y="4159440"/>
              <a:ext cx="0" cy="13431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11360" y="5502600"/>
              <a:ext cx="21099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411360" y="4159080"/>
              <a:ext cx="2109960" cy="13431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411360" y="4457880"/>
              <a:ext cx="2109960" cy="820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21680" y="3860640"/>
              <a:ext cx="79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21680" y="423396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4010040"/>
              <a:ext cx="43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69960" y="5577480"/>
              <a:ext cx="105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11360" y="4910400"/>
              <a:ext cx="933840" cy="592200"/>
            </a:xfrm>
            <a:custGeom>
              <a:avLst/>
              <a:gdLst/>
              <a:ahLst/>
              <a:rect l="l" t="t" r="r" b="b"/>
              <a:pathLst>
                <a:path w="510" h="381">
                  <a:moveTo>
                    <a:pt x="0" y="234"/>
                  </a:moveTo>
                  <a:lnTo>
                    <a:pt x="0" y="381"/>
                  </a:lnTo>
                  <a:lnTo>
                    <a:pt x="510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11360" y="5950440"/>
              <a:ext cx="272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20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11360" y="4905720"/>
              <a:ext cx="9669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290480" y="490572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6320" y="2971800"/>
            <a:ext cx="2971800" cy="3277440"/>
            <a:chOff x="76320" y="2971800"/>
            <a:chExt cx="2971800" cy="3277440"/>
          </a:xfrm>
        </p:grpSpPr>
        <p:sp>
          <p:nvSpPr>
            <p:cNvPr id="126" name=""/>
            <p:cNvSpPr/>
            <p:nvPr/>
          </p:nvSpPr>
          <p:spPr>
            <a:xfrm>
              <a:off x="1447920" y="4114800"/>
              <a:ext cx="83808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528" y="0"/>
                  </a:moveTo>
                  <a:lnTo>
                    <a:pt x="528" y="192"/>
                  </a:lnTo>
                  <a:lnTo>
                    <a:pt x="0" y="384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4724280"/>
              <a:ext cx="990720" cy="762120"/>
            </a:xfrm>
            <a:custGeom>
              <a:avLst/>
              <a:gdLst/>
              <a:ahLst/>
              <a:rect l="l" t="t" r="r" b="b"/>
              <a:pathLst>
                <a:path w="624" h="480">
                  <a:moveTo>
                    <a:pt x="0" y="240"/>
                  </a:moveTo>
                  <a:lnTo>
                    <a:pt x="0" y="480"/>
                  </a:lnTo>
                  <a:lnTo>
                    <a:pt x="624" y="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2280" y="2971800"/>
              <a:ext cx="26672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,000 Fixed Fe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4114800"/>
              <a:ext cx="0" cy="1371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5486400"/>
              <a:ext cx="1828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457200" y="4114800"/>
              <a:ext cx="1828800" cy="1371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57200" y="4419360"/>
              <a:ext cx="182880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38098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86000" y="41911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320" y="3962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1080" y="5562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591192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25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" y="4724280"/>
              <a:ext cx="990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447920" y="4723920"/>
              <a:ext cx="0" cy="762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9:52:02Z</dcterms:created>
  <dc:creator>User</dc:creator>
  <dc:description/>
  <dc:language>en-US</dc:language>
  <cp:lastModifiedBy>John Moore</cp:lastModifiedBy>
  <dcterms:modified xsi:type="dcterms:W3CDTF">2003-03-22T13:10:10Z</dcterms:modified>
  <cp:revision>15</cp:revision>
  <dc:subject/>
  <dc:title>Cost-Volume-Profit Analysis</dc:title>
</cp:coreProperties>
</file>